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9CC-8445-4DD6-9AAE-BF0925D3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A51-BBF1-4735-B966-6487EAAE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8C65D-ADB5-4AE3-8BB6-804EE3E3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39133-5367-4A73-8CE7-C2F8317F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A1DA6-15F9-4438-B82E-044B5BAE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8188C-A6A5-4657-8DAA-7B48B5D1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070DC-44AE-4FA3-A287-D7A16C9A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5CF04-3C6E-429B-B013-7C937342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9B884-688D-4ABB-AE76-8680E14B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F3D1D-1240-4D73-BDE4-0CAF3C8F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A2BDC-4EB4-49AF-9555-10485FAF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170A2-C27E-4B05-9CA2-FD19658C8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BEDE-E35C-41E1-BEF3-3A0234E9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C1D0B-DA70-46BF-AFEA-F82D8F7B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CA4D7-2D29-4481-AD16-8B26D7CA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FD7A4-9BFB-4B23-806C-4F612954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EC8D6-C579-4C6F-A24D-9466EE28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4D364-2073-454A-952A-154FE059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21207-9299-412D-AACB-496E3C7F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688E8-54F6-44E1-82E6-3BBA751A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24B0F-20A1-4D41-84E2-44FFC848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0B8B2-75A7-4D3D-8A14-313BD567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8521B-3714-4A63-BD8A-6E565C6C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2B2-7B1A-4155-97F3-E96A7F52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6A134-6FC6-499C-8457-59CD77F9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4EBA2-D58C-421B-B982-E7A1A9D3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D5864-DE74-4024-A9C0-5B1E2294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101E7-60ED-4AE5-B233-7AC85018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F2C2A-18A2-468C-B675-ABB2F50F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F9440-13F0-4F6F-98C0-924A896A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1C086-697A-4437-AD1C-9C3BDF18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00AC6-5395-4E15-8117-DC65DD50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407B9-8620-476A-BC11-69FAFD57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830BD-460E-4A69-94B1-513FAF77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7403-9F81-4B90-BA7F-F4DFE438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AE2D0-EDEC-4E73-B2F2-D47B08CB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936E6-DF01-4BA6-AE43-6B04A2ED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9684C-80F2-4319-8BCC-D7FBBAC8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B97A7-7EF5-4218-97EB-19E0741D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05D36-1682-4A0D-A4BA-CC54A1B2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7D580-E22D-4CC3-929C-055E3CC3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54186-0A05-493F-B800-3F1E3AC5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E063A-6B23-48B6-AEE3-68ADAC47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7B617-5C10-49B5-93F7-0AB99BF9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3ECF8-4D13-43A8-B455-56DD526C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E5BD-87BE-4F4A-BD02-BDBE72F1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74702-1676-40AB-8BA2-4A93B029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784CA-F353-488C-ACB4-5CDE8B52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FF766-B649-4FB5-84D9-4D07D7EE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6A341-B2A2-44A3-A51B-CB9F9B6D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86F35-096E-4559-B4AB-733BC578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52F5-AC4B-4A6A-8D05-5BF1F5DF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4AE6-9B30-4BE6-99CC-E17066B1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6C8F-C7C7-4BD5-98C0-7E1FECB1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B9C9-EAC6-4441-9DCA-5D03FF3E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40FF-026A-4963-A985-E99F84D8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8F1-F57D-40DF-9608-D626F275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C49A-9EC9-4FE3-9843-615EDB11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4454-85E4-4965-AD95-27FA4FA6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5ADE-14A0-49D1-B2FE-84FAE805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4679-9D7D-4B4D-8DB2-FF6F8D97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C806-32C3-4755-BB35-2FB7607B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D1FC5-88CB-4ADD-9527-B2C93D1B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9946B-AA6F-4257-B5A7-233DEF8C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1C32E-3BBC-474A-BF02-5DA81767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DA116-F660-492A-ACCB-AFF0313D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E85C8-451A-431D-8D08-2DB5DF0F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1E02-8A09-4F2E-810E-30C8F88B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1DC8F-133A-4C89-92A1-B3A43E16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0062C-1A8C-4A57-BDA1-40DFE46A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A860F-42C8-40CA-84B0-82B40491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6762C-D25A-4BEE-AC5F-44D0BA59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558C7-03A1-4875-8550-E92B443D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02B69-1BE3-4498-AED9-CEF6144B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28430-7A36-418B-8168-E4BE40EA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29B59-4D01-4839-B7E0-06CBDEF8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F78A4-544B-40E8-BC61-AC05FC37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F322D-85FD-499E-B744-17C59395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428-DD0A-46B4-9498-CF8AEA44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F8DEC-C551-448E-9030-26B99A3A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42C3C-901B-4E2D-B403-C8DE5AE9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34E23-167B-4C46-87B4-F62FB89D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A2B40-4565-4E7C-8D65-4DF8233D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ADFFC-9E40-4269-82D4-307796E3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001E8-7755-4803-8478-C1617D61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F1585-811C-421A-BF57-71D781B3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49ED6-3038-453C-9556-B5EA7D38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B950C-5C93-44E7-82CA-45C6B9A0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899CA-1C23-49AB-AD1B-8ACCC47C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B34B-9579-4727-97F1-2177CB17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FC554-3E63-4D50-B676-1F3E5A1C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99F74-DAB9-4482-ADF3-8334AEF4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73ED8-079B-4B07-AFFA-DBCEFC96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C8DEA-8BDF-4A8B-B52C-AB05A134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B3B0C-4736-4378-839A-49B23FC5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2E1E1-079B-42C6-BAAF-ED2A01F7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A183E-DD68-48AA-BC20-C3131898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B855F-D166-456C-842B-FF3A37EB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7756C-5104-4C9C-AA90-F2B2905D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C2A74-CDDA-49C7-ADD4-44A73924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E3D8-41D7-4152-A5AF-C2662AC7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9CAB5-97A8-48BB-BFD8-5B0FB639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5F8FF-D911-4546-B101-AF019FA7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C3E0D-D602-49AC-B578-F62DB565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CDDBD-CF69-4B6A-928C-3D63D1A3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2D587-98EC-4036-AFBC-6258DF9F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D1661-529D-4DA8-982E-DDE3B555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DB653-D059-450C-900C-B7AFAED5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1759C-EA62-454C-B0C2-A25884A9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18046-FBA2-426F-96B4-7D0CD12D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C4F3B-0F25-478E-9FF6-BA9E6C94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8286-F00B-41FB-BF17-3E57D5CA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4904F-D0B7-49E6-A24A-745CE467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9B56F-0540-48BE-807A-A1B24B7E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5ED83-7902-43CC-AA2F-3AA1AF0C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5AD23-28BF-4D14-A0E5-74316ABC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F3432-7809-4A65-8466-D5CF11AA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66900-515D-4A70-90FE-071E8904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5F00F-593D-48F9-800E-23CE7274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4C34B-13B0-4E25-9D9C-3E70F922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FCA16-6296-4D86-A675-F7E9A98F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8E8AB-393A-43A3-B0EB-8278C926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E0E8-1E09-4B88-9C15-08F073B9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2CEDD-A196-4FC2-8096-B7161C87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DCF18-7697-4E00-A043-72A8E9E9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E68FB-E09A-4D32-B9D4-30A0B0B3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664D0-7D11-4DFD-8E66-7D5CA6CC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C2DAC-F3C0-4C2C-9975-80FF8715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9800B-1746-4329-9F42-3D187EF2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E0FC9-B015-49DC-AE2B-55465DB0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0DA37-98E2-4305-AED3-FB293C53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9D054-B0BD-487F-92B7-3CDC08F6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E6306-7B75-4213-91D0-D6BD474A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4F9-15A0-4D6B-A0A3-8A7ED779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85EFE-D929-4169-A3D3-6B7BED6C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2DF36-D9DD-4BE1-AB21-3B63A539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1D749-E3C5-4A2F-91BA-27689185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F2CAD-2041-4CAE-9098-3FA2F953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5FF90-143A-4EC4-B66D-9CDBC6CF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55EAE-9182-4FA8-BA85-D946BDBA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C8748-3651-43A8-B9BF-57FC8134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D8C15-B996-4368-9A9E-3B99B079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03685-F266-486B-8F2A-A82A9490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E8781-F0CD-455C-B4BF-8B0040A2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E5A7-4C11-4529-ADCE-73808023F02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672C-6ABF-4C64-B698-7CAB4EABD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FD6D-C840-4D99-823A-D5A5BCED25F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C699-8ABD-4A0B-A778-4CE9B0E33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1C8F-169A-41C3-B096-87CCB8CFAAA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09F5-9A9B-4317-A59A-58EE555FB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D737-F4F6-4D5F-9417-939170B7FEF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D442-6854-4C25-A015-2136E82EE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2C3D-2574-4647-AFB8-F4E04CFEBA2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EA47-167B-436E-B189-44DED3B3D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91BE-AD7E-441F-B461-F9EC5987899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15A9-14DA-4D2C-8168-77B7AF1BD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56F3-9CE6-407E-B9D5-E91B369C81A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F396-F5AD-419D-9090-A986D1357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C064-C691-4DB4-B0CE-23FCFF91FE8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D060-3D59-415D-A53C-FC6050FB3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7863-AB01-495D-9554-EBF5A143A8E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8BC4-5891-40D3-A79A-9FC54167A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161C-368D-4658-9C13-F157440F505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066C-38A9-4991-A02C-A4F343FD1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D6F1-DA01-4EB4-A9BA-F2C9C1FC1BF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9380-9A45-47E2-8F10-9341FF98A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6AEE-77B6-4BF5-8DEE-77C04BB8E9E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CDBB-01B2-441E-AFEA-A634D90DD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slide24.xml"/><Relationship Id="rId23" Type="http://schemas.openxmlformats.org/officeDocument/2006/relationships/slide" Target=""/><Relationship Id="rId24" Type="http://schemas.openxmlformats.org/officeDocument/2006/relationships/slide" Target="slide26.xml"/><Relationship Id="rId25" Type="http://schemas.openxmlformats.org/officeDocument/2006/relationships/slide" Target=""/><Relationship Id="rId26" Type="http://schemas.openxmlformats.org/officeDocument/2006/relationships/slide" Target="slide28.xml"/><Relationship Id="rId27" Type="http://schemas.openxmlformats.org/officeDocument/2006/relationships/slide" Target=""/><Relationship Id="rId28" Type="http://schemas.openxmlformats.org/officeDocument/2006/relationships/slide" Target="slide30.xml"/><Relationship Id="rId29" Type="http://schemas.openxmlformats.org/officeDocument/2006/relationships/slide" Target=""/><Relationship Id="rId30" Type="http://schemas.openxmlformats.org/officeDocument/2006/relationships/slide" Target="slide32.xml"/><Relationship Id="rId31" Type="http://schemas.openxmlformats.org/officeDocument/2006/relationships/slide" Target=""/><Relationship Id="rId32" Type="http://schemas.openxmlformats.org/officeDocument/2006/relationships/slide" Target="slide34.xml"/><Relationship Id="rId33" Type="http://schemas.openxmlformats.org/officeDocument/2006/relationships/slide" Target=""/><Relationship Id="rId34" Type="http://schemas.openxmlformats.org/officeDocument/2006/relationships/slide" Target="slide36.xml"/><Relationship Id="rId35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b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wing Ba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Box 2"/>
          <p:cNvSpPr/>
          <p:nvPr/>
        </p:nvSpPr>
        <p:spPr>
          <a:xfrm>
            <a:off x="2514600" y="68580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 fiber from the flax plant. Great for summer clothing and for napk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4"/>
          <p:cNvSpPr/>
          <p:nvPr/>
        </p:nvSpPr>
        <p:spPr>
          <a:xfrm>
            <a:off x="2286000" y="7621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lin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Box 3"/>
          <p:cNvSpPr/>
          <p:nvPr/>
        </p:nvSpPr>
        <p:spPr>
          <a:xfrm>
            <a:off x="2971800" y="914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 that has tee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2743200" y="762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zipp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2438280" y="838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 that is usually round, has holes, and goes through a hole to close garme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4"/>
          <p:cNvSpPr/>
          <p:nvPr/>
        </p:nvSpPr>
        <p:spPr>
          <a:xfrm>
            <a:off x="2743200" y="762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butt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Box 3"/>
          <p:cNvSpPr/>
          <p:nvPr/>
        </p:nvSpPr>
        <p:spPr>
          <a:xfrm>
            <a:off x="2514600" y="609480"/>
            <a:ext cx="350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 that has 2 parts that _____ into eachother. These are usually metal and must be hand sewn onto gar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Box 4"/>
          <p:cNvSpPr/>
          <p:nvPr/>
        </p:nvSpPr>
        <p:spPr>
          <a:xfrm>
            <a:off x="289548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na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Box 2"/>
          <p:cNvSpPr/>
          <p:nvPr/>
        </p:nvSpPr>
        <p:spPr>
          <a:xfrm>
            <a:off x="2438280" y="8380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ure that has 2 sides.  This can be sewn to the garment or stuck on.  Also called Loop and Tap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Box 4"/>
          <p:cNvSpPr/>
          <p:nvPr/>
        </p:nvSpPr>
        <p:spPr>
          <a:xfrm>
            <a:off x="2743200" y="6858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Velc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Box 3"/>
          <p:cNvSpPr/>
          <p:nvPr/>
        </p:nvSpPr>
        <p:spPr>
          <a:xfrm>
            <a:off x="1905120" y="76212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 fiber made from worms. Originally made in Ch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447920" y="324468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Box 3"/>
          <p:cNvSpPr/>
          <p:nvPr/>
        </p:nvSpPr>
        <p:spPr>
          <a:xfrm>
            <a:off x="2743200" y="609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qué closure. Sewn on top of garment. Named after an amphibia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Box 4"/>
          <p:cNvSpPr/>
          <p:nvPr/>
        </p:nvSpPr>
        <p:spPr>
          <a:xfrm>
            <a:off x="2743200" y="609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fro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Box 2"/>
          <p:cNvSpPr/>
          <p:nvPr/>
        </p:nvSpPr>
        <p:spPr>
          <a:xfrm>
            <a:off x="2819520" y="91440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bric that is shiny and made from a twill weave.  Usually used for bridal and formal we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Box 4"/>
          <p:cNvSpPr/>
          <p:nvPr/>
        </p:nvSpPr>
        <p:spPr>
          <a:xfrm>
            <a:off x="2743200" y="685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at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3"/>
          <p:cNvSpPr/>
          <p:nvPr/>
        </p:nvSpPr>
        <p:spPr>
          <a:xfrm>
            <a:off x="2590920" y="8380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lain woven cotton fabric.  Usually used for sample garments and quil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4"/>
          <p:cNvSpPr/>
          <p:nvPr/>
        </p:nvSpPr>
        <p:spPr>
          <a:xfrm>
            <a:off x="2743200" y="990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musl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Box 2"/>
          <p:cNvSpPr/>
          <p:nvPr/>
        </p:nvSpPr>
        <p:spPr>
          <a:xfrm>
            <a:off x="2514600" y="6094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jeans.  Has a twill weave.  Very strong and mostly made of cott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2514600" y="914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ni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3"/>
          <p:cNvSpPr/>
          <p:nvPr/>
        </p:nvSpPr>
        <p:spPr>
          <a:xfrm>
            <a:off x="2362320" y="9144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retchy man made fiber.  Added to fabrics to make them stretch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Box 4"/>
          <p:cNvSpPr/>
          <p:nvPr/>
        </p:nvSpPr>
        <p:spPr>
          <a:xfrm>
            <a:off x="2743200" y="8380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pande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5"/>
          <p:cNvSpPr/>
          <p:nvPr/>
        </p:nvSpPr>
        <p:spPr>
          <a:xfrm>
            <a:off x="3048120" y="6858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il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2"/>
          <p:cNvSpPr/>
          <p:nvPr/>
        </p:nvSpPr>
        <p:spPr>
          <a:xfrm>
            <a:off x="2666880" y="8380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 fabric used for expensive sweaters.  Comes from Kasmir go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Box 4"/>
          <p:cNvSpPr/>
          <p:nvPr/>
        </p:nvSpPr>
        <p:spPr>
          <a:xfrm>
            <a:off x="2819520" y="609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ashm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3"/>
          <p:cNvSpPr/>
          <p:nvPr/>
        </p:nvSpPr>
        <p:spPr>
          <a:xfrm>
            <a:off x="2895480" y="8380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hand tool.  Used to remove stitc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Box 4"/>
          <p:cNvSpPr/>
          <p:nvPr/>
        </p:nvSpPr>
        <p:spPr>
          <a:xfrm>
            <a:off x="2895480" y="609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ipp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2"/>
          <p:cNvSpPr/>
          <p:nvPr/>
        </p:nvSpPr>
        <p:spPr>
          <a:xfrm>
            <a:off x="2743200" y="7621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 that is used to stitch together fabric with thread.  Used for basic sew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Box 4"/>
          <p:cNvSpPr/>
          <p:nvPr/>
        </p:nvSpPr>
        <p:spPr>
          <a:xfrm>
            <a:off x="2514600" y="685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ewing mach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3"/>
          <p:cNvSpPr/>
          <p:nvPr/>
        </p:nvSpPr>
        <p:spPr>
          <a:xfrm>
            <a:off x="2209680" y="91440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chine used to bind the edges of a seam so that it doesn’t fray.  Uses 3 – 4 spools of thread. Can also sew seams toge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Box 4"/>
          <p:cNvSpPr/>
          <p:nvPr/>
        </p:nvSpPr>
        <p:spPr>
          <a:xfrm>
            <a:off x="2743200" y="1066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erg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Box 2"/>
          <p:cNvSpPr/>
          <p:nvPr/>
        </p:nvSpPr>
        <p:spPr>
          <a:xfrm>
            <a:off x="2362320" y="83808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ing device that is flexible and can measure around a person’s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Box 4"/>
          <p:cNvSpPr/>
          <p:nvPr/>
        </p:nvSpPr>
        <p:spPr>
          <a:xfrm>
            <a:off x="2286000" y="762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measuring ta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Box 4"/>
          <p:cNvSpPr/>
          <p:nvPr/>
        </p:nvSpPr>
        <p:spPr>
          <a:xfrm>
            <a:off x="2438280" y="83808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 fiber that is good for cold weather clothing.  Comes from she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2133720" y="83808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equipment used to press fabric and seams. Is hot when plugged 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Box 5"/>
          <p:cNvSpPr/>
          <p:nvPr/>
        </p:nvSpPr>
        <p:spPr>
          <a:xfrm>
            <a:off x="2666880" y="8380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ir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Box 3"/>
          <p:cNvSpPr/>
          <p:nvPr/>
        </p:nvSpPr>
        <p:spPr>
          <a:xfrm>
            <a:off x="2590920" y="60948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 of finishing the bottom edge of a gar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5"/>
          <p:cNvSpPr/>
          <p:nvPr/>
        </p:nvSpPr>
        <p:spPr>
          <a:xfrm>
            <a:off x="2819520" y="762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emm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3"/>
          <p:cNvSpPr/>
          <p:nvPr/>
        </p:nvSpPr>
        <p:spPr>
          <a:xfrm>
            <a:off x="297180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8 of an i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4"/>
          <p:cNvSpPr/>
          <p:nvPr/>
        </p:nvSpPr>
        <p:spPr>
          <a:xfrm>
            <a:off x="2286000" y="6858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width of a seam allow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Box 3"/>
          <p:cNvSpPr/>
          <p:nvPr/>
        </p:nvSpPr>
        <p:spPr>
          <a:xfrm>
            <a:off x="2209680" y="91440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ewing 2 pieces of fabric together, these sides of the fabric are face to 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4"/>
          <p:cNvSpPr/>
          <p:nvPr/>
        </p:nvSpPr>
        <p:spPr>
          <a:xfrm>
            <a:off x="2362320" y="8380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right sid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Box 3"/>
          <p:cNvSpPr/>
          <p:nvPr/>
        </p:nvSpPr>
        <p:spPr>
          <a:xfrm>
            <a:off x="2286000" y="6858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o this when you are using the iron on fabric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Box 4"/>
          <p:cNvSpPr/>
          <p:nvPr/>
        </p:nvSpPr>
        <p:spPr>
          <a:xfrm>
            <a:off x="2666880" y="609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res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Box 5"/>
          <p:cNvSpPr/>
          <p:nvPr/>
        </p:nvSpPr>
        <p:spPr>
          <a:xfrm>
            <a:off x="2209680" y="9907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w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2362320" y="68580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o this when you use sharp thin metal “sticks” to hold together 2 pieces of fabr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Box 4"/>
          <p:cNvSpPr/>
          <p:nvPr/>
        </p:nvSpPr>
        <p:spPr>
          <a:xfrm>
            <a:off x="2590920" y="9144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in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Box 2"/>
          <p:cNvSpPr/>
          <p:nvPr/>
        </p:nvSpPr>
        <p:spPr>
          <a:xfrm>
            <a:off x="1981080" y="68580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 fiber grown on plants. Good for summer clothing. A machine called a _______ gin made it easier to separate the fiber from the plant see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4"/>
          <p:cNvSpPr/>
          <p:nvPr/>
        </p:nvSpPr>
        <p:spPr>
          <a:xfrm>
            <a:off x="2666880" y="685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ott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Box 3"/>
          <p:cNvSpPr/>
          <p:nvPr/>
        </p:nvSpPr>
        <p:spPr>
          <a:xfrm>
            <a:off x="2438280" y="9144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 made fiber. Made from coal, air, water, and petroleum products. When burnt, the fiber melts and burns.  The ash is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Box 4"/>
          <p:cNvSpPr/>
          <p:nvPr/>
        </p:nvSpPr>
        <p:spPr>
          <a:xfrm>
            <a:off x="2666880" y="762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olyes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DeBates, Debra</cp:lastModifiedBy>
  <dcterms:modified xsi:type="dcterms:W3CDTF">2009-09-14T21:31:17Z</dcterms:modified>
  <cp:revision>37</cp:revision>
  <dc:subject/>
  <dc:title>Blank Jeopardy</dc:title>
</cp:coreProperties>
</file>